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1C5-FA8D-494E-B484-8860803F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795-43C3-40EA-824F-E401089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37F-575D-456F-B458-0A7F9CA6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688-0486-4207-954F-C1853DF3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BA9-EAFD-489F-A7E7-4A77AE1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E2A-0B5B-4B8C-987D-3824FE4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88F-8BB4-4BD5-9DC3-8D0B52E0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41B-9465-4A6E-86CE-EF1B015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4C6-C0B2-4EE6-B61D-F28A3A2F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3E5-C8AE-46C9-AD8A-238A599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DCA-8B59-4A02-856E-FBFACC8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656-82A5-4FCF-936B-70C71A4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A11-1D30-494D-B89A-045EC6C1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2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m k nebu zalet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žim k nebu zalet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a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, kde v bránach dom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 nár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Otc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žby moje letia v 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je on, môj Boha a Kráľ.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a k nemu privin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láske s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udzinou je táto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mov, domov túžim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, kde Pán môj lásk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esto aj mne priprav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smierna to bude sla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ť tú krásnu uzrieť vla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ôcť v tej ríši r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ložiť bremä star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ymny chvály, rad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ť budem z 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Pán Boh bude sám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lnk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vetl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chrám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de Kristus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vojej sláve dá mi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uje mi z 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úcho spravodliv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44:02Z</dcterms:modified>
  <cp:revision>21</cp:revision>
  <dc:subject/>
  <dc:title>Je veľký náš Pán, on slávy je Kráľ Nech do všetkých strán  spev vrúcnych znie chvál.</dc:title>
</cp:coreProperties>
</file>